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39420"/>
        <c:axId val="27972567"/>
      </c:barChart>
      <c:catAx>
        <c:axId val="88839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2567"/>
        <c:crosses val="autoZero"/>
        <c:auto val="1"/>
        <c:lblAlgn val="ctr"/>
        <c:lblOffset val="100"/>
        <c:noMultiLvlLbl val="0"/>
      </c:catAx>
      <c:valAx>
        <c:axId val="27972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39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E9D-CA6E-4797-B56B-ACD89092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F06-1E05-43B8-A99A-3066FC2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322-E304-42E7-BA80-3A417A5D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E13-E1A9-425C-80E6-BDB413BA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611-FAEE-4EBF-9008-FAE432B5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E4C-B5AA-4BA0-B467-0306E768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9F4-4A75-4958-939F-DB7A1B3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F1D-C8DF-4ADF-AC4B-E3EAFA88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A0B-6AB2-459A-93FF-25FD064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AA1-7DF8-4B11-A9EC-DC47DAF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22F-3483-452B-8933-1CE0ECC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614-4904-422A-B9A6-4B8D5C8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FD629-453D-4599-B350-ED184589B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