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141478"/>
        <c:axId val="92387979"/>
      </c:barChart>
      <c:catAx>
        <c:axId val="141414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387979"/>
        <c:crosses val="autoZero"/>
        <c:auto val="1"/>
        <c:lblAlgn val="ctr"/>
        <c:lblOffset val="100"/>
        <c:noMultiLvlLbl val="0"/>
      </c:catAx>
      <c:valAx>
        <c:axId val="923879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1414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6BC8-8934-49F4-9065-9FB1566EF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6031-3846-4AA5-BC12-B06CAAFA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F821-E8A4-4387-A7D9-F62F9FDEF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0ECF-FAFA-4F44-9E47-3FEF218C3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EBB3-AF6B-4B72-9B83-712C9D9D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28CD-23FE-4278-B3A3-CDFDD2DD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FCF8-36B7-431A-A2E7-32129F37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C035-6E82-4421-969E-B524F21D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122D-E6F5-459F-99B5-5E15F295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4657-FF67-46FA-9E20-151D8B44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2F5D-7E09-46F1-B2E2-4AABBBA5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8621-5653-49C5-8A7B-6AEAEDFE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9C4606-C0A1-4D37-818D-E94A8071B8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